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20286"/>
        <c:axId val="67779883"/>
      </c:barChart>
      <c:catAx>
        <c:axId val="99320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9883"/>
        <c:crosses val="autoZero"/>
        <c:auto val="1"/>
        <c:lblAlgn val="ctr"/>
        <c:lblOffset val="100"/>
        <c:noMultiLvlLbl val="0"/>
      </c:catAx>
      <c:valAx>
        <c:axId val="67779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20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B45-4F6B-418A-B08E-809294DE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B2C-FF76-4C40-9A0A-5A7FC43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1B0-8D66-4814-9726-E53947B9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2A0-C88C-4F54-8BEF-031E73EC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4FF-2C34-4DBD-BD0A-5B59AC1E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ADE-EBAD-4DBA-BFBD-FBE2209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C29-BF00-4BE4-95F2-D88310EE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430-EE0D-467A-9AA2-843F1D0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020-963C-4512-A6D9-4B025945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9CD-0E01-48A6-9D61-9D61209C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294-BB97-4521-9FA8-840A818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DBD-B861-4821-9C55-9487288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1B9F0-8756-469D-ADE0-838FB3E114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