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C3DB5F2-AEB2-47F5-8844-1B5BBFBFFF1C}"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1CD9B6A-F4A5-4200-B7D5-72C24D4A819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9C7256C-ABB0-4581-8627-367C5669A0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DE5E3E8-765B-446E-9378-2C627FBA5F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6D6D009-EB30-4994-AC8F-DC94A8FDF2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7FFCA2C-5A0D-43F5-B780-6F1A8AEC5E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5689E41-39D6-4470-BCEA-7DBB60C6A70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4914473-F573-4EB4-BAAF-56D19B625EC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9B7118F-3DF2-4316-81B6-1D38BEC000C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52D714F-7E82-4236-9118-EAB1390FF7F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76947F7-4459-4A78-A898-AEACE52345E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704DD3A-24A1-4ED7-B5DF-C9CFCE96380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F4156EC-A2A1-41F4-A989-4C3E4E5E2D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3AACE9-0267-4198-A7CA-B8D2FB056E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911B8EF-A298-4A38-8BDD-21CF67BB4AB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37A6959-5A5C-4208-864E-C9A92A7F09E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B7C9FCF-512B-45B0-9EDD-F3FBF30F268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D6113A7-812F-4FAA-82CD-CFEC16E5E29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EE588BA-17E1-4A80-89B1-AB59A8A0A02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D71537-AB84-4928-8793-36E59771D0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90C6C9-59D4-4DB2-B337-299BF018EB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4E81E7-A510-4052-8AF4-469D53C0C7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357DEB-1141-434C-A70E-1D0E20FDF3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4DFF22-BDDD-47E2-B0D3-0BD3425EAA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FE87E5-BDD4-4247-974D-3C0BF02FD9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4EC848-60F1-45C3-B63B-79D12A8E69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B9CA3-1788-40AA-97A6-E5CAA887881D}"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BF05D-AE95-4E69-AE0D-D906D0FF686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582081-BB3E-4281-887E-4F66C8F31D55}"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CB204DA-6DCB-443F-9AA8-B8652D6083A2}"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CEE7610-1AEF-4C8E-960D-E71ED16F4667}"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87C27B-6D60-4AFA-80EF-62D6FE3EECC8}"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AF1E077-8AAE-4693-979E-2447F7DB3153}"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515FFB-A5BA-4330-8543-03F99E7BE12D}"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916BE4F-2199-4D3B-B017-71AF5E1482D7}"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DFF6740-21D3-4FFB-AE24-896BD046E32E}"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68CA4B0-7A4C-4C04-AF50-AB48C5A4EDA7}"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B0B04C2-CE22-4A96-9E51-44D6D45353E3}"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DBBAB96-95CA-417C-8014-EF5C54E33D0A}"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97A6A12-5788-40FE-B938-826297FD6157}"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7954160-E7D1-4560-A3FC-5638E0A9BC3F}"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D9A8D31-CD72-446B-863E-1EC147B224D1}"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8A4B2F0-24F8-471F-9A0B-C80E5B658CE9}"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B67CD72-C97C-49D6-B5D9-5A566188E4B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C595B5C-843E-4066-8252-F799DEF14341}"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46FC108-764D-4171-8081-7AF2D95582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03923A4B-5D5F-4588-94DC-F374C42E7EDA}"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9AD3A12-698B-430E-B997-1A3E905C2CEC}"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EBA31C-85BE-4068-A18E-726A94A2FC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0F39104-6388-4F93-B95E-51CAA2313D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C7990B4-D787-416B-B66B-919E80045BAF}"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78F474-FC2C-49AA-9190-3B392A615C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DC41494-0782-4209-8DEA-42A665F71F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9119127-70F5-4967-A938-DCE16A9AE0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1D483CA-2A89-466D-8B37-B7565A451203}"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F232D39-9502-4BC7-A62D-1E1323EBA3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BE54A4-424F-4426-A246-F06764984F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27ACDF0-70BF-4EDE-ADB1-DBE0A3B773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609B55B-42F1-4209-865D-023F9708E9CF}"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5184D17-73C3-4A51-8D39-B6EDA42E91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49235D-61CE-41BB-9651-DC17ABBBC67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BD32FAA-8DA0-4802-A36D-475AC6337257}"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94B67E4-0746-4E93-A151-DF3CA12F95D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E501DF4-CF01-4317-8A83-E10E724D731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ED3ABE0-BFA5-4A81-B0BE-314126A0DE4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620CE13-7AA8-4090-A9FD-E1FDAA4D018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1C201EC-1EFB-45A6-ADA2-E0620F78187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78E4B1B-596C-4F1A-9847-9BB11EBCEAA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2723A1F-6770-4898-87BA-BF5E672D5B7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78937E-DD1E-4395-8040-6508C3E47DB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83B901F-0263-48FE-B46F-208D8F63DE7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082D1F2-95F9-4A08-AD90-3ADBCF9720AB}"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E0B985E-C3DC-4A8B-A811-B1BD1C96E0C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7EB8B12-B191-4BEF-8864-AAAC2C6E4B0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F3EE228-D9D3-474A-8BB8-F8D3B6B7CD8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8E22779-22ED-41D6-AC03-CDAA0E43E55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E82484-99BC-4590-A16C-2AFAAD64D12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8D03DA9-279B-4EB4-A40D-23FD2B7E8C7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8991479-7455-4524-BBD5-4BBDF4275FEE}"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261593D-18A2-445A-92B0-69578586FC3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BD9E2E8-B078-477C-BAF8-DF326BDC25FC}"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31F8CAF-8E59-4FA2-85F7-76AE11BD86A1}"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AF1A6F5-D000-4AAC-A62F-ADE7DFFBFECA}"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80929F3-BFF5-4604-8922-467C49A70950}"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798E7FD-D671-4D73-A6D0-273B5CEE3229}"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1EA5D7-43BC-4FAC-8C38-EFFA8ADB33C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132B8C3-0438-40D0-8553-F90957770BC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4429B0F-7EB1-4113-BBB1-71CCADEEC8E9}"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BE8821D-938E-4A72-B447-62E76AE3D92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8844E7-FC62-4F6B-BA33-ED863D1C68F4}"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2C304E6-1C99-4174-BC23-13B7969E96E8}"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4AE7F3C-4007-46FF-950B-F5CC15BE04CA}"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62AA61C-1DA2-4FE3-A804-447DDA5D92C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3813A8E-492A-46D9-9159-7277665300E3}"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064F940-E61F-4856-80EB-4235BC60C464}"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CA6C47B-2591-46DE-8350-F49E92855329}"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B0AF22C-2C68-4F5E-A2DA-5363F761B87D}"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9F402C9-51F7-4741-B4FA-71CA0F4F84C8}"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D603B7-4857-4B26-964C-A16F86C2A3AC}"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BEA17B4-7302-41C4-88AA-07531643770B}"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C5AD119-421D-474B-AF77-A0F1E44A7AAF}"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0EE222A-216A-4541-B541-2F7AF47D0DD7}"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C7A0E5A-AB0F-474A-A47E-D0EFF4A83036}"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8C39630-71BD-457D-A05D-30CF3596550F}"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77F307B-DAA5-4F95-8CBF-D0D5CDE6A91C}"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43FD097-EBDF-42B0-A183-FD10D1011E5C}"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47F201B-7DFD-45F2-9986-E779F142BC2C}"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FA8E6A4-7DEB-4240-97C1-D36EA494A51A}"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16150B9-E4E5-4585-996B-AA282BAAD10E}"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8B3CF5D-3644-4005-BF87-D8DD6460F5B3}"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0196004-245A-4B55-B378-284FDB03A23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4E1A7B5-F32A-4C28-8BC6-DC2E7476C44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2241A2-874D-49F5-942E-D71C8486BCF2}"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D73EECC-6772-417F-A5B6-5365F7580007}"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CF73E8F-2640-410A-9E87-B9477B96291B}"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040648F-790A-4703-9B50-9810EABF8C73}"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6DFFF9-989C-42AE-BEC1-8BE0937FAAD3}"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749F242-96FD-422F-AB1A-6D550EFBF887}"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240A14C-F67A-4A36-A27D-FE6FDDF36C13}"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889A47A-E6DB-4DAE-B8CD-F483E6C50347}"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A2C1329-015B-4125-92E0-AB1D08928EAC}"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7535FC3-7DAB-4E5D-82B0-96D1AD44433C}"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C05AD248-68A7-4687-8A06-4682D3E5FAA7}"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D90150A-D775-4A59-981E-5EA4C6F156FC}"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1DAF8B4-7374-4E60-A09C-C6F181DCB0BA}"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E2D6D71-FEAC-496C-8234-D9CCE1402DF3}"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5D8E912-63F2-4DCD-A643-A189602112C7}"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42C0188-DCAB-47B9-A1DA-943327C90C98}"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778E87F-57A7-4598-BB9F-3A6916E6C3ED}"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A112CEB-9FF2-4C17-9A50-476C00A5FA27}"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7325C85-0E67-4AD9-BD82-A07D08B2D23E}"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941CB7C-4C79-406C-8779-918A0AFE5B5D}"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198C513-42C1-42F5-A77E-11C0BBCB3E5E}"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241A11E-5849-417F-ADF5-D3EE5FC82B88}"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D847A549-8007-4D3E-B0D4-1A4257DFBD54}"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31DD39F-E374-410B-84FE-AA5C2549449F}"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409FC4B-62B3-4254-95DC-C0CB27878A0E}"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A77F3A7-DAC8-4BC2-98DD-0994004F9225}"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596B68C-5BA0-4F55-B436-B5CF6272C4AF}"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E77C50-4B84-4D47-9275-159AD52A6B47}"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