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498669"/>
        <c:axId val="48017271"/>
      </c:barChart>
      <c:catAx>
        <c:axId val="414986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17271"/>
        <c:crosses val="autoZero"/>
        <c:auto val="1"/>
        <c:lblAlgn val="ctr"/>
        <c:lblOffset val="100"/>
        <c:noMultiLvlLbl val="0"/>
      </c:catAx>
      <c:valAx>
        <c:axId val="480172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986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6F60-D570-4376-9A12-BD52CFE7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19E0-52DA-4FF5-A55E-868B3A1F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171A-BCBB-492C-95FC-3AFCC071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B943-2EBF-4AA1-AE68-D6E77B0D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DCEF-2630-4225-8FAE-25D8D169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3EE7-2508-4B7D-B37B-11009140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DE06-0AD2-4142-8A06-C01E2586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2885-EE27-40F7-BF99-CD30D45B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00FF-813F-4AB4-B2F0-766727FF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D6B9-37E9-4C29-AA30-150AAC04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A95E-40DF-4539-B199-9D29F261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1FC7-1A31-4EFE-8737-146F66EF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5A862-E7C4-497D-8557-A63257902D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