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84845"/>
        <c:axId val="52922561"/>
      </c:barChart>
      <c:catAx>
        <c:axId val="52084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22561"/>
        <c:crosses val="autoZero"/>
        <c:auto val="1"/>
        <c:lblAlgn val="ctr"/>
        <c:lblOffset val="100"/>
        <c:noMultiLvlLbl val="0"/>
      </c:catAx>
      <c:valAx>
        <c:axId val="52922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84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EC9-A757-4AC2-8173-DBEF3AB2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3A-CB0A-4ABA-B1A0-7296ED68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146-C0DD-460F-8A10-51BA2DBF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E28-0270-433A-BF03-0B5444ED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D8D-D026-46A8-985C-9CC1004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BC9-2CA9-473C-AB24-39023E07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0E1-41AD-488C-91AC-F47CB268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323-1698-4DB5-A99C-B99E8FD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2B5-DA0B-4661-8F26-A56C651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42B-BB68-4844-B82F-731F154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DA2-178E-4A59-A2BB-D736B3D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9EF-052D-44E6-8270-1ED70854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7A209-C455-4492-8C03-250C17DE7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