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45893"/>
        <c:axId val="90037521"/>
      </c:barChart>
      <c:catAx>
        <c:axId val="9594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37521"/>
        <c:crosses val="autoZero"/>
        <c:auto val="1"/>
        <c:lblAlgn val="ctr"/>
        <c:lblOffset val="100"/>
        <c:noMultiLvlLbl val="0"/>
      </c:catAx>
      <c:valAx>
        <c:axId val="90037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277-6D2B-4DA2-9145-63426309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E4A-2BD8-4326-8988-4CF8E264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1CB-1A29-4851-B46D-D0A0CE3A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509-CE35-407E-BFDD-382A9F1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674-9D5C-4316-9E27-D7D9AEF1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AFE-0840-4A12-8422-987D6AE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A60-948D-4EEC-BC76-2A219E2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306-32DC-4CD5-B666-550FD0D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56-A95F-4D85-AA75-84BC914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BDE-D8C4-4BFE-BA5E-5F7774C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AF6-EB60-462D-80FA-F414248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03B-789A-419B-AD76-2A24F08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0E73C-6EB8-4869-8A52-EA04EC206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