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38281"/>
        <c:axId val="47426815"/>
      </c:barChart>
      <c:catAx>
        <c:axId val="87438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6815"/>
        <c:crosses val="autoZero"/>
        <c:auto val="1"/>
        <c:lblAlgn val="ctr"/>
        <c:lblOffset val="100"/>
        <c:noMultiLvlLbl val="0"/>
      </c:catAx>
      <c:valAx>
        <c:axId val="47426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8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57F-031F-4628-8DC7-58C122BA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407-942C-42E6-8495-8AF0E7C9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BD8-3A25-473B-B7E0-DC84C628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D09-D26F-42DA-B8DB-3943F7DA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C05-B4A1-4337-98E9-3A40E0B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A59-5EBE-4073-8D72-34E84AC0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B67-BED6-4C7A-998D-81AAB1C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726-14CA-4D6A-ACD9-B4C4B14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8F4-BA75-43BA-A0A9-3287F881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5D5-04A7-4984-830A-49C8D0F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A2A-ADE5-44D8-B231-A5452686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658-D1EC-4DE6-B1AC-0EE7CEA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28E11-23DD-4F9E-9D33-22A85A7959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