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2715"/>
        <c:axId val="69845840"/>
      </c:barChart>
      <c:catAx>
        <c:axId val="7642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45840"/>
        <c:crosses val="autoZero"/>
        <c:auto val="1"/>
        <c:lblAlgn val="ctr"/>
        <c:lblOffset val="100"/>
        <c:noMultiLvlLbl val="0"/>
      </c:catAx>
      <c:valAx>
        <c:axId val="69845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2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378-9C7B-43A1-8BA0-B1D7CC59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53F-E9A9-4C63-855B-CBC736CE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041-7878-42D2-9055-3C3305CC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4CD-0179-4D84-8571-009FE0D6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B30-406A-41C9-86C1-4AF5A840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889-249B-44EF-9796-31DC4364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B83-EA63-462F-AC32-E5540E7F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E0C-37A1-4179-8968-7F23F90D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B92-FA0D-4C69-913C-558B84F3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945-3E20-4AF3-8043-9CAE49E0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E00-5936-4E10-8C8A-23B193F7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8EE-C1AD-4692-9FEC-ADA05B8E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01A12-7B8A-448B-8628-901E7F724B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