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4132"/>
        <c:axId val="93600523"/>
      </c:barChart>
      <c:catAx>
        <c:axId val="19854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0523"/>
        <c:crosses val="autoZero"/>
        <c:auto val="1"/>
        <c:lblAlgn val="ctr"/>
        <c:lblOffset val="100"/>
        <c:noMultiLvlLbl val="0"/>
      </c:catAx>
      <c:valAx>
        <c:axId val="93600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4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A92-718B-4ED0-888B-A64CB6E2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4DA-6635-429B-8FBC-873DBCC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C41-F6D3-4CFF-905F-2A73B84C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C92-0C60-44BD-B811-BB034095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D6A-4F38-429B-BC29-ED33188B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F9B-2DA3-4ADE-9580-51D645A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287-E90F-4962-97EA-3FB69901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C85-0EB5-4584-8586-E149340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35E-B3A5-4501-B9ED-A7E5AE1A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764-CA38-4A8D-8BCF-08B2019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060-5DE9-48B4-A048-887DD26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A60-FAEE-4886-83F0-C43E6E81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F03A-7E74-442D-9B7D-945B32F81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