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96332"/>
        <c:axId val="25673302"/>
      </c:barChart>
      <c:catAx>
        <c:axId val="72296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73302"/>
        <c:crosses val="autoZero"/>
        <c:auto val="1"/>
        <c:lblAlgn val="ctr"/>
        <c:lblOffset val="100"/>
        <c:noMultiLvlLbl val="0"/>
      </c:catAx>
      <c:valAx>
        <c:axId val="25673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96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D5E-86E3-4612-ADDA-4142C8CD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96A-5898-4A8E-90FB-AE9D4122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811-ABA6-445B-8154-07753331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58E-5ECA-4F4E-9B4C-2C285E35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79C-8B4D-4F25-88A7-02556DCE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800-66FE-4C46-BAC9-9E53988B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EA1-9FD3-49AB-B04D-3A5D031A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4AC-B8B2-474B-B1F4-3817CEA2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20E-E3DC-46D7-A4AC-2570392E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32F-A9B9-49E7-ACC9-084809F3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500-32E0-494D-9C75-FABDB839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869-F402-453B-BE5A-CFBECBED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E4652-0436-4987-88CA-AB69D7302D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