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7531"/>
        <c:axId val="17227632"/>
      </c:barChart>
      <c:catAx>
        <c:axId val="9587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7632"/>
        <c:crosses val="autoZero"/>
        <c:auto val="1"/>
        <c:lblAlgn val="ctr"/>
        <c:lblOffset val="100"/>
        <c:noMultiLvlLbl val="0"/>
      </c:catAx>
      <c:valAx>
        <c:axId val="17227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7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012-9DF5-411E-BD63-316532C5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11A-137D-4EE0-9EF0-74D75DA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B28-0A89-4F44-82B6-8BCD7524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1C0-3547-4149-B489-C51CF5CB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36A-B47A-4C7D-BAC3-039BAE4E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DCE-E1B7-47C1-89F1-1F8B97F6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070-4936-4592-AB72-F10FB21B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0C6-8D5A-4540-AC14-3347DD81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030-B68C-400F-8BE0-380E4AC6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F18-057D-4BF2-8990-25191C44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131-1BBD-4C4D-9B54-5836DB4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C5D-1217-4613-88EE-13B001F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A505-7603-460C-8EDA-26706F0B9B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