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09415"/>
        <c:axId val="51562400"/>
      </c:barChart>
      <c:catAx>
        <c:axId val="12809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62400"/>
        <c:crosses val="autoZero"/>
        <c:auto val="1"/>
        <c:lblAlgn val="ctr"/>
        <c:lblOffset val="100"/>
        <c:noMultiLvlLbl val="0"/>
      </c:catAx>
      <c:valAx>
        <c:axId val="51562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09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3171-BEBC-4E47-B18A-93560D52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40C-D594-471B-B0C6-1DE103F4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0B5-5BDB-4EC0-8752-2C2AE12D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7817-2460-437E-BED2-B81C7866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4FD3-BE65-4906-B1C5-F6EEFF5C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219-747E-4C88-8721-9FD8556B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59B5-1161-4A03-B54F-2EC4BBEB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C96A-8304-4340-ACA6-0F1448D4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351-DA89-4CF9-A136-01310C3C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8BF-CB46-4504-BB2C-95C2352E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1D6-6657-4416-A9C2-EB927206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8F36-3A7F-43C7-8421-84ED9ACF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6E2FC-BC4F-41A4-A832-515CF2474C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