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44339"/>
        <c:axId val="84987725"/>
      </c:barChart>
      <c:catAx>
        <c:axId val="33644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87725"/>
        <c:crosses val="autoZero"/>
        <c:auto val="1"/>
        <c:lblAlgn val="ctr"/>
        <c:lblOffset val="100"/>
        <c:noMultiLvlLbl val="0"/>
      </c:catAx>
      <c:valAx>
        <c:axId val="84987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44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461-1320-4FF7-B476-70E2785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44F-8F2F-4295-8982-081FA1D3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315-0C57-4E02-A380-FF1FD46F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6D5-318C-4ABE-A13B-00FC280E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E38-32B1-4260-8247-22669487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C19-4207-4FEE-BE3D-0353CFCB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E3C-619C-4389-9534-169C732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381-9FBC-44AB-9B18-81514BD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21C-331A-4667-90DA-0679D2C3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645-BFFF-4239-9FF8-1365AD3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907-A7F0-46D5-8AF1-E6590F2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AB7-92AA-4174-AECB-AB6D4B6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203F9-5484-46D2-91C5-2465D5112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