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86279"/>
        <c:axId val="67397954"/>
      </c:barChart>
      <c:catAx>
        <c:axId val="98386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97954"/>
        <c:crosses val="autoZero"/>
        <c:auto val="1"/>
        <c:lblAlgn val="ctr"/>
        <c:lblOffset val="100"/>
        <c:noMultiLvlLbl val="0"/>
      </c:catAx>
      <c:valAx>
        <c:axId val="673979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86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560-2425-48FD-852C-19D5DEDA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99F-C3EB-487B-B751-954D6E41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5ADA-DF54-4921-A583-4710F162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3C2-1C0A-4BB9-8C13-90303A3F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DA7C-CEC1-4535-AFBB-F63E20C9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A345-C423-47E7-9A09-EF442686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B8E-A59B-412A-A56C-94C673DC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81B-D24A-4EA8-ABCA-B4422308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2F6-352F-43CB-BB50-387FC549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053-E384-4B31-A188-A082FBE3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361-DD10-48AF-86FD-05B2914A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5EA-C3C3-4323-81B1-812014EB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AA088-DFB9-46FF-A733-686F8E80DD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