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361462"/>
        <c:axId val="45610658"/>
      </c:barChart>
      <c:catAx>
        <c:axId val="353614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610658"/>
        <c:crosses val="autoZero"/>
        <c:auto val="1"/>
        <c:lblAlgn val="ctr"/>
        <c:lblOffset val="100"/>
        <c:noMultiLvlLbl val="0"/>
      </c:catAx>
      <c:valAx>
        <c:axId val="456106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3614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40FA-12C6-4CE0-861C-6D93AEEC0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E70E-2BAE-4938-9828-43AA67A8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B824-A5FD-4851-AC15-54E6A2199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7F16-5EA2-4C2C-AD70-140289B12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8994-1037-4513-A423-EBFBBDC3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C116-A4B9-4426-9AB5-52DED192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1198-330B-494A-B623-8EAAB2F4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A0FB-A75A-4E48-9430-82805B9F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610F-93FE-42DE-B3BA-7CC0C452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0D25-21DC-4461-A2B1-D0C11A3C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6733-AE80-495E-B7E9-0B4B92F8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4950-9639-409C-856E-A74952FC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08914-21E1-4CD8-9410-DB6F5E01E5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