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35292"/>
        <c:axId val="14901814"/>
      </c:barChart>
      <c:catAx>
        <c:axId val="4853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1814"/>
        <c:crosses val="autoZero"/>
        <c:auto val="1"/>
        <c:lblAlgn val="ctr"/>
        <c:lblOffset val="100"/>
        <c:noMultiLvlLbl val="0"/>
      </c:catAx>
      <c:valAx>
        <c:axId val="14901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3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6C5-463E-416F-B6DA-19F7749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516-6B42-4F61-A880-8B6E711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C86-034F-4A1F-9FB2-A29765C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3B1-3B34-42EE-BD73-7C6BE4D8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B23-1ADF-419C-88D6-211FD0DA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EF7-0C59-492A-9370-5CA78E3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25C-B2B4-4026-AAE1-8DD8642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F82-8F53-4DB7-825A-430FBCC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D3C-D6F6-477D-AFB2-E597081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524-6BB3-4914-A860-42C5CC7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911-C3A5-438C-AD70-2C44785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9B1-1C44-4D73-BBFE-05CC001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A7F07-9B1D-4EB6-81FE-1C70F3BEC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