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84632"/>
        <c:axId val="18597741"/>
      </c:barChart>
      <c:catAx>
        <c:axId val="82284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97741"/>
        <c:crosses val="autoZero"/>
        <c:auto val="1"/>
        <c:lblAlgn val="ctr"/>
        <c:lblOffset val="100"/>
        <c:noMultiLvlLbl val="0"/>
      </c:catAx>
      <c:valAx>
        <c:axId val="18597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84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104-16C1-42FD-A904-442BD4A4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FE3-40DE-42A1-B709-287F9603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A78-EA35-416D-B3F4-5ECFF10F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611D-5CF1-426F-BFB4-2FF5C606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1B2-7424-49EB-85DB-F3F62AB4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BB9-9CD0-44DE-9098-DCA87C2C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809-DC67-4F86-9866-27C46500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9E8-0C8B-403A-B75A-EA9F1022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4B1-AAD3-4AA5-BD78-A279462E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B445-4EC7-4FA7-B012-11848104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97A-3FE0-4B34-8560-C7B047D4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ABC-FB09-4574-877B-35F55A8D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486C8-CF35-4CD3-967E-A44AFF3003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