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661585"/>
        <c:axId val="28707214"/>
      </c:barChart>
      <c:catAx>
        <c:axId val="36661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07214"/>
        <c:crosses val="autoZero"/>
        <c:auto val="1"/>
        <c:lblAlgn val="ctr"/>
        <c:lblOffset val="100"/>
        <c:noMultiLvlLbl val="0"/>
      </c:catAx>
      <c:valAx>
        <c:axId val="28707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61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27D-D867-46F4-9583-26A38BC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185-F2FC-4A65-B949-14490135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8F2-6280-4CB5-8C49-17830605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E82-470E-4659-83EA-DDC64E41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22DF-DC53-4F91-B990-65B1745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D33-4A1B-493D-BF8F-99B1987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D29-649F-46B0-BBB2-65C562F4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05A-0A30-44D7-8FFC-A923520F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0CB-FDDA-4FCE-9E9A-097651F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003-5090-428B-A3CD-BBD4C84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D90D-01B4-42E9-A030-33623C06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AE5E-FD7A-4933-9AC0-D81CBC62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AEEDB-0846-4E16-80A2-BF67D28E97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