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F0AD-80DE-4A2A-9085-14ADA25A3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E39-A4BE-4716-A99C-12C3271DC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5779B-D764-4086-8715-B1E4AE8EC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104E6-440B-4766-972C-EBEAF16DB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76E88-01EC-427F-BF4D-56963C142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33B0E-4F6B-4C19-AE12-9B13769BD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0EA1B-E1E2-434E-ACA4-CFA39EF93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7256-686B-4A4B-95BF-24CD95A32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3E141-DC89-4D1F-9B0F-6301FA917A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21A8-906F-4B2D-A780-E3337AA1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74FE-C3E6-4F62-B259-88D45F25C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7410B-FDA9-425A-AA99-D735642C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F37C7-0603-4AD1-805E-142C71436FF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top</a:t>
            </a:r>
            <a:br>
              <a:rPr sz="6000"/>
            </a:br>
            <a:br>
              <a:rPr sz="6000"/>
            </a:br>
            <a:br>
              <a:rPr sz="6000"/>
            </a:b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botto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6T09:43:46Z</dcterms:created>
  <dc:creator>Mike Kaganski</dc:creator>
  <dc:description/>
  <dc:language>en-US</dc:language>
  <cp:lastModifiedBy>Mike Kaganski</cp:lastModifiedBy>
  <dcterms:modified xsi:type="dcterms:W3CDTF">2016-03-16T10:10:29Z</dcterms:modified>
  <cp:revision>1</cp:revision>
  <dc:subject/>
  <dc:title>top   bottom</dc:title>
</cp:coreProperties>
</file>