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3592940"/>
        <c:axId val="30860885"/>
      </c:barChart>
      <c:catAx>
        <c:axId val="2359294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0860885"/>
        <c:crosses val="autoZero"/>
        <c:auto val="1"/>
        <c:lblAlgn val="ctr"/>
        <c:lblOffset val="100"/>
        <c:noMultiLvlLbl val="0"/>
      </c:catAx>
      <c:valAx>
        <c:axId val="3086088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359294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6F823-0F7B-4609-B21F-2CC7D5BE46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1C1BB-A1B7-46B0-B1DE-7B8B6AA9A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2763-239D-4952-B248-A695199188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0D1ADC-76B3-4C56-91B2-812C633C4D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A5AD3-64B0-4BF3-83EB-BF1C53CC2E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555215-BDEF-45D4-B5C2-CCE0D68E2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60EA6-CA0F-4AE7-A9B3-9D7BD99FA4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788AD-03B2-4494-9422-3B3C6324B0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FC53C-8D95-4910-B585-B08391250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17FCF-058E-4047-83B3-B230E564F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02669B-9A0D-49B2-843E-B96F2DF0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E88F84-C5DF-4F40-BE31-8F4206351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32952E8-B797-4679-8FFD-41E65167C287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