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F4B9-D7D8-4943-AF2B-D1E6C0A508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5C972-418A-4216-B500-2E67F959E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AAFCB-8197-40A7-99E7-F225395A5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9848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94400" y="176832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9848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94400" y="4232160"/>
            <a:ext cx="285264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7A88D-3F8A-4A87-AEB8-F9412F793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813F-03BF-4C6F-BA68-54359B61D8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64BA6-4DD1-455A-823E-3BCFC177B7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3485B-6AAB-4DAB-A5B1-9D9D0CFC9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BC9F6-DA1F-4EBF-8FB4-0ED5EF5F8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1560" cy="58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4311-7109-4470-BFAD-61E3AC8F5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A5DE-6077-4934-B277-8E0F90F0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43240" y="423216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DABF-6BBF-46FF-9B8C-4D60CD138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3240" y="1768320"/>
            <a:ext cx="432360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232160"/>
            <a:ext cx="8859960" cy="224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74473-51DE-4053-AE09-E46D38B11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1560" cy="125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8859960" cy="47167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15160"/>
            <a:ext cx="233820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14800"/>
            <a:ext cx="3186000" cy="546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Stencil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Stencil"/>
              </a:rPr>
              <a:t>Footer_Tex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15160"/>
            <a:ext cx="2338560" cy="51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6B1A47-D5B9-47CC-AC2E-C63A05BE9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62080"/>
            <a:ext cx="9070920" cy="134280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eader/Footer Formatting Test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990800"/>
            <a:ext cx="8869320" cy="438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5-04T03:19:35Z</dcterms:created>
  <dc:creator/>
  <dc:description/>
  <dc:language>en-US</dc:language>
  <cp:lastModifiedBy>user</cp:lastModifiedBy>
  <dcterms:modified xsi:type="dcterms:W3CDTF">2016-05-04T15:31:36Z</dcterms:modified>
  <cp:revision>4</cp:revision>
  <dc:subject/>
  <dc:title>Header/Footer Formatting Test</dc:title>
</cp:coreProperties>
</file>