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5859511268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F63F8-19D9-4B2E-AFDB-CF22AA0D0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B98D-A69B-40A1-BB76-BACE80C8E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8542-004C-4D9F-B182-8864E85E5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3711256352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14622180000"/>
            <a:ext cx="26496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DCFE5-2003-432E-AD32-BDA40D0D5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9916-8E92-44C5-8446-15AECDACFA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1033-2BCD-4AAF-8EEF-7AF32C341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0DF7B-AEAE-46E3-B648-23302F9E8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7E9B3-CE05-4052-A8F7-CCB5FFB09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3379449760"/>
            <a:ext cx="8229240" cy="45359168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FA5A-0FE1-49A3-83AC-7F89C57C4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272-0922-4C68-ACC2-22255BD35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1462218000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E1E81-7295-44DA-B614-23E541E3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12563520"/>
            <a:ext cx="401580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14622180000"/>
            <a:ext cx="8229240" cy="16210923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1FD8-25D4-438F-8B9F-4735E7AA4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3379449760"/>
            <a:ext cx="8229240" cy="9785383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_x0013_봞〒菈_x0013_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7112563520"/>
            <a:ext cx="8229240" cy="33985165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_x0013_봞〒菈_x0013_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_x0013_봞〒菈_x0013_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533801476800"/>
            <a:ext cx="289800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533801476800"/>
            <a:ext cx="2130120" cy="4043062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_x0013_봞〒菈_x0013_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C2A71C-83B6-4A41-9CD4-F7898AE8EC2B}" type="slidenum">
              <a:rPr b="0" lang="en-US" sz="2400" spc="-1" strike="noStrike">
                <a:solidFill>
                  <a:srgbClr val="000000"/>
                </a:solidFill>
                <a:latin typeface="_x0013_봞〒菈_x0013_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7228836864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_x0013_봞〒菈_x0013_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307020390120"/>
            <a:ext cx="8229240" cy="36000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_x0013_봞〒菈_x0013_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ial">
    <vt:lpwstr>On-screen Show</vt:lpwstr>
  </property>
</Properties>
</file>