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26969"/>
        <c:axId val="79504798"/>
      </c:barChart>
      <c:catAx>
        <c:axId val="67926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04798"/>
        <c:crosses val="autoZero"/>
        <c:auto val="1"/>
        <c:lblAlgn val="ctr"/>
        <c:lblOffset val="100"/>
        <c:noMultiLvlLbl val="0"/>
      </c:catAx>
      <c:valAx>
        <c:axId val="79504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26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673-E9BF-46F1-9183-6D3F47C4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677-9A38-48B2-A3A3-174ADABB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9E8-FB75-4BB3-BD1E-09AF9776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D1B-DEAE-4569-AA38-5F52506E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5AC-A641-488F-8F28-D57DD9C7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076-77AF-48CC-900D-682050F0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ACA-08D1-441C-88E2-1557E364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3DE-F590-41FE-87EF-AD516231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E26-C8A0-4682-9EF0-6D0D46D6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69A-CEAD-41D2-91FF-B2D3185D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FD8-F594-4BC7-93B3-F815C6D5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58C-4C6C-47FC-8655-682F4D5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49B31-4856-42CA-A01D-E59D6D72F5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