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69603"/>
        <c:axId val="8514358"/>
      </c:barChart>
      <c:catAx>
        <c:axId val="296696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4358"/>
        <c:crosses val="autoZero"/>
        <c:auto val="1"/>
        <c:lblAlgn val="ctr"/>
        <c:lblOffset val="100"/>
        <c:noMultiLvlLbl val="0"/>
      </c:catAx>
      <c:valAx>
        <c:axId val="85143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696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CAA-3F7B-44B5-99DD-8AA8C4AD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152-1F55-4D39-ABB2-035F2FB4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249-3A2D-4DCE-8B22-00724F3F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DB0C-7F24-4F48-9E41-01C77EC4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ADC1-0933-4F09-9FF0-244EA4D8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CC82-4971-454E-BFCC-1022965D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0A91-F7CB-430C-87BE-A85CB016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B1F-10A6-4C8C-9767-DE4B242E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433-E77D-40E0-A515-83664D61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9A75-822B-4893-9935-78484F0E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A82-2A34-4F39-8CD5-2A1C09D6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C9F-12F9-4008-8CC6-260CC69B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E8C4C-D841-4913-908D-0F752A7910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