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74761"/>
        <c:axId val="701335"/>
      </c:barChart>
      <c:catAx>
        <c:axId val="66574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335"/>
        <c:crosses val="autoZero"/>
        <c:auto val="1"/>
        <c:lblAlgn val="ctr"/>
        <c:lblOffset val="100"/>
        <c:noMultiLvlLbl val="0"/>
      </c:catAx>
      <c:valAx>
        <c:axId val="701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74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DE7-3157-4800-AF59-B7C1E577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D4E-A4DD-4EC0-A055-33DC079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CA4-2B99-4571-9070-82F176A6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AB4-5FF2-4DCC-ABE5-05ED2F1F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8D4-58D8-4738-B982-C1586AF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5F2-76FC-4BCA-A15C-43A8A26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D75-3826-4FEF-AE18-FA525D9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1A3-1942-4C10-B55D-23C81BE9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D1C-2FAF-4311-B732-B77172E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04D-5DCD-4A16-B8F1-3BB508F9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312-547D-4C0D-ABF2-AD34593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C66-6145-42C0-94BE-9E3A4471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A3517-624C-47EE-877D-72191C643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