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22940"/>
        <c:axId val="86257855"/>
      </c:barChart>
      <c:catAx>
        <c:axId val="86922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57855"/>
        <c:crosses val="autoZero"/>
        <c:auto val="1"/>
        <c:lblAlgn val="ctr"/>
        <c:lblOffset val="100"/>
        <c:noMultiLvlLbl val="0"/>
      </c:catAx>
      <c:valAx>
        <c:axId val="86257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22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594-5FDF-40C0-ADB0-298AE70F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6F9-67C2-44D9-BCE4-49785F46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E5F-77C5-42EE-8190-6AB85A47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05A-1BB8-4AE1-91A1-12E98E5B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82B-457C-4C2C-8597-D26D96E6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F49-561A-4FDD-9F57-7AF389B8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83E-904C-48B6-BC1A-2603E146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163-6C80-4494-9C06-0AC2A102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4C8-D0E5-477B-917E-A5ABFF8F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975-059A-47E6-AB13-C5D1240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459-6180-4769-A241-CBA31A6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F98-223A-4D42-93C0-9427FB20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204FA-A572-427A-A95A-6365AD233A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