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57731"/>
        <c:axId val="78777672"/>
      </c:barChart>
      <c:catAx>
        <c:axId val="68857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7672"/>
        <c:crosses val="autoZero"/>
        <c:auto val="1"/>
        <c:lblAlgn val="ctr"/>
        <c:lblOffset val="100"/>
        <c:noMultiLvlLbl val="0"/>
      </c:catAx>
      <c:valAx>
        <c:axId val="78777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7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499-CF80-42F3-8D11-B406E6F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105-9234-4043-8A95-275C78F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2AC-E889-46A9-82EE-4366D013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3F5-4346-4A29-BDD2-19CD6932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1A8-B85C-4A02-B718-1F33944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B85-6417-4206-AE3B-6FFD92C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AA6-5A41-4CC9-9433-1D275DFA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F7F-FC04-4599-A332-1FB5F55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5BD-24B6-4981-B043-E929D37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095-706B-4E19-992E-2CEF556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F8C-AFDE-479F-8818-09072C8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45E-2E2E-4CD0-861A-B6F3DF1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25751-A447-4318-B6D5-8A2E1B9AB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