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30526"/>
        <c:axId val="14703371"/>
      </c:barChart>
      <c:catAx>
        <c:axId val="28830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3371"/>
        <c:crosses val="autoZero"/>
        <c:auto val="1"/>
        <c:lblAlgn val="ctr"/>
        <c:lblOffset val="100"/>
        <c:noMultiLvlLbl val="0"/>
      </c:catAx>
      <c:valAx>
        <c:axId val="14703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0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A1B-AFE1-440E-B812-DA6B2F02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FD8-7E1E-4375-8114-CC93D19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64B-13D7-4240-9A4F-E3050734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FDF-1D34-48F6-A399-B767138C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6D2-F1FA-4A96-BF94-26C3DDE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D1-5473-4E9E-9182-C57A72F8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B85-837D-41F3-90DD-207F221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A42-F926-42C2-B007-CBAB0E8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C57-C44C-4FA6-8EFD-1AE45F86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806-F890-4E8A-BE60-422C03F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B23-1148-4DEA-AF1F-7BB1E65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2ED-55BF-402C-AABE-8171AB1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34D7-048E-44ED-8380-1E61E66968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