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18914"/>
        <c:axId val="82283522"/>
      </c:barChart>
      <c:catAx>
        <c:axId val="34518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3522"/>
        <c:crosses val="autoZero"/>
        <c:auto val="1"/>
        <c:lblAlgn val="ctr"/>
        <c:lblOffset val="100"/>
        <c:noMultiLvlLbl val="0"/>
      </c:catAx>
      <c:valAx>
        <c:axId val="82283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8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CB0-7F8A-4107-863A-B9351578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7A6-8B60-48EB-B6AF-CC54FC1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4C6-8436-495A-AEDA-0D81453F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00F-0600-4765-AE60-4D61AA3E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FBD-4CE7-4AEB-8F99-FEDE853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99F-C182-432D-907F-71F9900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37F-5C4D-4352-9D95-0C69A2B2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4FF-1B4A-4B3C-B7D4-008C569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991-C8CC-42E3-BC88-7338665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F10-D2DF-4883-A9A8-B2FF72B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9BB-DA25-4977-9471-FAEDFB8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215-0EC7-4BBD-9D14-BEE335A1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1C138-F473-4D7A-A8F3-F8C4A4C7A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