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65687"/>
        <c:axId val="74251810"/>
      </c:barChart>
      <c:catAx>
        <c:axId val="11065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51810"/>
        <c:crosses val="autoZero"/>
        <c:auto val="1"/>
        <c:lblAlgn val="ctr"/>
        <c:lblOffset val="100"/>
        <c:noMultiLvlLbl val="0"/>
      </c:catAx>
      <c:valAx>
        <c:axId val="74251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65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C04-3436-4AB0-81AF-CFB52428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C40-B2A2-40BD-A962-03CD56D8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AF7-AC6A-4343-BBAA-F8246C86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BCD-AA46-4524-BFFB-29FF3F90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068-7AF8-42BE-AA45-FD725974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2A5-9F45-4ACB-BE72-EDC2E706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16A-8EFC-45B2-B6F0-EB3EADF4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567-550A-46B0-8F86-3ADAA688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106-A0CF-4A11-97FC-63AC9450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DBF-BAA7-4A8D-8F63-0DE49C6A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2DD-B8EE-4A41-B671-B1C67A07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BFD-DFED-4BAC-A26F-E580013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B5432-4990-4AC9-8720-D5516756DC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