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51500"/>
        <c:axId val="72206972"/>
      </c:barChart>
      <c:catAx>
        <c:axId val="51551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06972"/>
        <c:crosses val="autoZero"/>
        <c:auto val="1"/>
        <c:lblAlgn val="ctr"/>
        <c:lblOffset val="100"/>
        <c:noMultiLvlLbl val="0"/>
      </c:catAx>
      <c:valAx>
        <c:axId val="72206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51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63EC-A72C-4B6E-9DE3-4A14D2A0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72B4-6FC8-4C7F-9DA1-E632A03E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458-5D76-49C9-825E-A04AC75D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3AB-B927-4BFA-9356-395EF765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215-DFEB-4958-848D-10A5CEB8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FA8-9F93-43E9-80D6-28A6B555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AC2-61F5-416C-A9D9-63C06D27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F52-402C-4A15-8089-1B3F334E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26A7-3A58-4EBA-B7FB-16FC2431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683-00A6-476F-91C8-99DDEF9B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736-82E7-413B-8A41-62C6ED39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BB4-3EF4-41ED-AF30-772D6EEE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C9D5B-5888-4A01-86DD-277E3C14C2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