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715167"/>
        <c:axId val="9929461"/>
      </c:barChart>
      <c:catAx>
        <c:axId val="747151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9461"/>
        <c:crosses val="autoZero"/>
        <c:auto val="1"/>
        <c:lblAlgn val="ctr"/>
        <c:lblOffset val="100"/>
        <c:noMultiLvlLbl val="0"/>
      </c:catAx>
      <c:valAx>
        <c:axId val="9929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151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58C-4D9C-4F0E-BAF7-548F6106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2FFA-5359-4834-890D-992D6298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C110-BCED-4C6A-BEF4-F0051948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F195-2D2F-48A4-A7EB-6ED18ACF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1367-275C-41FC-BAC1-05F79DC0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3280-C030-49ED-BCE2-C1BFDBA1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6EB9-B27A-4E8C-8B9A-4448A02F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4A5A-00A6-455F-A01A-C3EAD51F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686-D9E7-4640-8F05-CD6A852E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1DA8-BBCA-46D6-A531-D17BA3B8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164B-DE49-4AA7-BD92-144974BD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7D42-48D9-411F-9A87-0E7AEF84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01231-51B4-4581-8B6B-E79949119F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