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9500"/>
        <c:axId val="73767978"/>
      </c:barChart>
      <c:catAx>
        <c:axId val="9439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67978"/>
        <c:crosses val="autoZero"/>
        <c:auto val="1"/>
        <c:lblAlgn val="ctr"/>
        <c:lblOffset val="100"/>
        <c:noMultiLvlLbl val="0"/>
      </c:catAx>
      <c:valAx>
        <c:axId val="73767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9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373-3950-41CC-8164-2D404C13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D76-8ECC-466A-BDE3-7F7F0081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B61-ED6B-441B-A724-713840DD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DCB-BD43-4D51-A74E-65371BFA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3E2-2B6D-4D68-9935-A1242FFD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D91-6D41-462E-A7FD-16383DAD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DC9-09D1-410F-A38C-6793AC39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AAF-87E3-477E-B958-6356D88C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344-4362-4EE7-83B8-44AD8B14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7DC-E321-4200-B6F1-6A62783B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8BA-89EE-41CA-9BBB-595B6D8B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692-989A-4DB1-8CDD-A81E770E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785CC-A4DE-4049-954A-A96F5A1C7C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