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82550"/>
        <c:axId val="75132477"/>
      </c:barChart>
      <c:catAx>
        <c:axId val="34982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32477"/>
        <c:crosses val="autoZero"/>
        <c:auto val="1"/>
        <c:lblAlgn val="ctr"/>
        <c:lblOffset val="100"/>
        <c:noMultiLvlLbl val="0"/>
      </c:catAx>
      <c:valAx>
        <c:axId val="75132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82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E49-2F0E-42BE-9531-D82E7F93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062A-E6AA-4AE2-88BA-3110A08B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84A-1D80-400A-A21F-1662DF4D6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0984-ECC6-452B-965D-21353E41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76E-1391-4694-8E18-78BADA44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9214-829D-4529-952F-AFC81BB3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9A3-FA98-4D80-85EC-A67A636B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AA03-EB3B-42FF-8A8F-0AAED959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A22E-859D-4E7B-9091-9E597BB6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D79B-E32C-4841-BE4C-F8F1C56E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5D93-5ECC-43AB-AEFD-5B329919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BE4-3B07-4C8B-B1B8-02BED225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18ED4-2269-42AD-BEA2-0C3990EA02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