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21949"/>
        <c:axId val="25266191"/>
      </c:barChart>
      <c:catAx>
        <c:axId val="10421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66191"/>
        <c:crosses val="autoZero"/>
        <c:auto val="1"/>
        <c:lblAlgn val="ctr"/>
        <c:lblOffset val="100"/>
        <c:noMultiLvlLbl val="0"/>
      </c:catAx>
      <c:valAx>
        <c:axId val="25266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21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864-C707-4B37-9E1E-3F4FACAA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FD8-FBB9-4E13-862A-67A9AA43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A2D-82D5-435D-81F5-07B75465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909-E9DB-478E-BEE9-C3F7DE14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EA2-DE68-4F2C-A688-11B4E8B4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557-671B-4A7D-A2E2-A10BD0D1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4FB-BBDA-4CA7-A091-B1E4124F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AAA-8908-4BBC-9A2F-63AB8260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B33-C219-4B86-8FCA-77E14DCF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028-2DC6-497C-8EFC-ECEBB28C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054-5DCD-4F9D-A431-0E10687E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273-726E-4E3E-827A-7810AFF4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8B8EB-860E-450C-B3BC-CBB0D35589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