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996917"/>
        <c:axId val="5156674"/>
      </c:barChart>
      <c:catAx>
        <c:axId val="679969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6674"/>
        <c:crosses val="autoZero"/>
        <c:auto val="1"/>
        <c:lblAlgn val="ctr"/>
        <c:lblOffset val="100"/>
        <c:noMultiLvlLbl val="0"/>
      </c:catAx>
      <c:valAx>
        <c:axId val="51566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9969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E2F14-D88E-4B8F-B231-47570C475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AF8E8-1463-42D4-824F-255022C1A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CAD9A-C2B0-4C33-A5F9-F66BEE98D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8914-C25C-4EB9-921B-C81C0806E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4B63-D9F8-46FA-87AB-40034024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2507-C6A2-4911-A000-FFEE2E85F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B6F18-5548-43BA-A31E-FE120011C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1EEAD-5D46-48D1-AD26-D5F7A1392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35C-367E-410F-BA68-09EBD748D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70EA-CCF2-4DA2-8E03-47D0DC477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BE257-87DA-428F-BFB2-83B1E498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55DF-AE0F-447C-966A-4421FFBE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E82C61-26EA-43FD-A24E-35DEEEE6905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