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2720"/>
        <c:axId val="84026914"/>
      </c:barChart>
      <c:catAx>
        <c:axId val="4012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26914"/>
        <c:crosses val="autoZero"/>
        <c:auto val="1"/>
        <c:lblAlgn val="ctr"/>
        <c:lblOffset val="100"/>
        <c:noMultiLvlLbl val="0"/>
      </c:catAx>
      <c:valAx>
        <c:axId val="84026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E58-B9DC-4053-B97D-ABEC0149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714-AD8E-4B00-BE30-93270196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42A-1C39-4F31-8928-01DF8A46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953-5670-4D0D-869B-CB476199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D26-245E-465C-B75E-E434BDB0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B2A-267C-46AB-85AD-5257FF20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839-9498-43A0-9C53-9E8ABB83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2EA-6A4A-4563-B39F-49115619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5F2-99AE-4250-8184-70940338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BDA-24BA-4E25-9299-3DEC3D5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0D2-1E39-4942-859C-74C59C0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5DE-25C8-4959-9ACF-F39B8DC5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D3079-D0A6-4C96-A4D8-77DCCAFD1E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