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51847103"/>
        <c:axId val="93346975"/>
      </c:barChart>
      <c:catAx>
        <c:axId val="51847103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3346975"/>
        <c:crosses val="autoZero"/>
        <c:auto val="1"/>
        <c:lblAlgn val="ctr"/>
        <c:lblOffset val="100"/>
        <c:noMultiLvlLbl val="0"/>
      </c:catAx>
      <c:valAx>
        <c:axId val="93346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1847103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960EB-D146-43B1-B5D3-BF2E53B0DCB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FDDA5C-7628-4820-9248-13AFE16C69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563E04-4811-4C46-857B-DD28F27A91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3A89E1-A187-48E6-AB30-0FA05056F6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44291-2047-4A64-9A20-63F06AEE837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480B6-2BA8-4953-B1C2-624ECC0CA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BDA8FD-C308-49F6-9148-18BFF7A578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56F5-A9E1-46F7-83F5-3A3AB9E26E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7E7C1F-C63D-4F08-B5B6-2B2F8F5436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4454F-5389-4B51-9D78-1FF1E3DFF5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0D493-31C6-4E8F-AFE5-5124739E41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46FC8C-D044-4AB7-8C49-A8C8B5FF65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63D96A-8BCA-47E8-958B-267ED6F8FCE2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