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420892"/>
        <c:axId val="83915571"/>
      </c:barChart>
      <c:catAx>
        <c:axId val="43420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15571"/>
        <c:crosses val="autoZero"/>
        <c:auto val="1"/>
        <c:lblAlgn val="ctr"/>
        <c:lblOffset val="100"/>
        <c:noMultiLvlLbl val="0"/>
      </c:catAx>
      <c:valAx>
        <c:axId val="83915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20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7C64-8AC6-4046-AEB0-A780DD20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B88D-99AB-433D-9C6D-69D968B3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0650-9F43-46AA-A179-8FEC66FF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1BBF-5567-42E1-BB54-EF292AED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DDD-68E4-426F-A290-772D749D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F6F-8991-4608-8D19-D8D9E58A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F605-F5DF-4CE8-83A6-B7AC9A56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FAF-5305-4087-BA61-A7C54085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F2B-CD5F-4DB4-B304-FC148E62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2337-C96F-482E-8CCE-AE1FDD35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FF1-78B1-4B52-9DAB-E2DEFE61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A547-EEEA-43B5-9A87-927C9034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9022F-98D4-489A-A244-E208A45460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