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69246"/>
        <c:axId val="10291630"/>
      </c:barChart>
      <c:catAx>
        <c:axId val="41669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91630"/>
        <c:crosses val="autoZero"/>
        <c:auto val="1"/>
        <c:lblAlgn val="ctr"/>
        <c:lblOffset val="100"/>
        <c:noMultiLvlLbl val="0"/>
      </c:catAx>
      <c:valAx>
        <c:axId val="10291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69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CEB-D57A-4780-AC56-E4D5BBFC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439-FAAC-423C-8DD5-599D928A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79F-6781-45F2-8249-0CE325A4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45B-FA22-4C3F-8E7B-1D1C61D6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8CC-4FFB-4105-B594-E0EBB972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2F9-D5DA-48DB-998E-14B72A8F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097-487C-49DB-A291-D82E0219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ADE-A1FD-4C48-83EA-B319AE11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F79-BAC0-4751-9B32-8056575D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5AF-63D2-48B3-B8B3-799C400C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80F-DCCD-4C00-9E83-602CD4AE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A3B-9313-455B-9C37-CF85C878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ABA73-FA91-48BD-83FE-807A984BD6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