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331574"/>
        <c:axId val="35494950"/>
      </c:barChart>
      <c:catAx>
        <c:axId val="59331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94950"/>
        <c:crosses val="autoZero"/>
        <c:auto val="1"/>
        <c:lblAlgn val="ctr"/>
        <c:lblOffset val="100"/>
        <c:noMultiLvlLbl val="0"/>
      </c:catAx>
      <c:valAx>
        <c:axId val="35494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31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A690-4560-4B27-A05B-0F3C0E39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36A-D4AB-43E7-9448-ABAD10AC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3016-5205-4705-894B-4D3CE352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D41-4627-4CE0-B984-BD34D0B6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D5D5-24E0-4DD5-B063-32BD0E41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2F0-D2F6-44EA-8294-FD2CF44F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DE6-7331-4B35-BFE1-C00A5D22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C8E-854B-4445-BAB1-E8585079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CB1A-8929-460F-A829-9E26462F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B2C-5D0C-4005-AF8B-57C822ED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CF8F-B744-4426-8FA1-AD6496BB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E5DA-446C-4291-AB23-13A098D0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EEF1F-5806-4EAA-8710-2818635AF5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