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53002"/>
        <c:axId val="29159942"/>
      </c:barChart>
      <c:catAx>
        <c:axId val="50530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59942"/>
        <c:crosses val="autoZero"/>
        <c:auto val="1"/>
        <c:lblAlgn val="ctr"/>
        <c:lblOffset val="100"/>
        <c:noMultiLvlLbl val="0"/>
      </c:catAx>
      <c:valAx>
        <c:axId val="291599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30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5B9F-5B20-4DC8-A7D1-A4D669A58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0C06-AA32-4E2F-82D0-CC814018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0C69-324B-4EF7-A349-4ED221D74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AAE7-E23C-43CC-966C-B9E8F85CA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FC50-A06E-475F-A1E6-FE924700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D668-F09F-4EDC-B9C0-FCD4A073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5EA0-27B8-4BE1-A838-7454AFFA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DF83-C42F-4D23-AA99-301E9285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6E6D-F2CE-4672-9C90-91F25BBD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F65D-8493-469C-BE90-B44CAE93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1547-6853-4D59-8179-13A34096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9234-B110-4649-BA1E-C5661737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E1D6C-A889-4DBD-AFC0-976D61A3A4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