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98061"/>
        <c:axId val="67390393"/>
      </c:barChart>
      <c:catAx>
        <c:axId val="34598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90393"/>
        <c:crosses val="autoZero"/>
        <c:auto val="1"/>
        <c:lblAlgn val="ctr"/>
        <c:lblOffset val="100"/>
        <c:noMultiLvlLbl val="0"/>
      </c:catAx>
      <c:valAx>
        <c:axId val="67390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8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C08-AD7E-4EE8-9061-74C9C5AF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829-BF2B-4D64-ACC0-B5C90ECA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8CD-5AEF-4883-B5A8-F25FCE97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F1C-0C82-4025-B004-EC680D92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0F7-3FE4-41DD-9CB5-9599A614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386-1077-4784-8441-8725D74A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20A-3EF6-4424-BD3F-EF2122DF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288-AAD0-41E1-8E33-6A6470D5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98A-9F1B-4D93-A1A9-8F21C051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111-B62B-44C8-80C0-03424D9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081-C0CB-4F48-BA7F-C6644CE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873-8902-461D-BB71-176C345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FEF44-9170-46B1-B73B-289119D161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