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92468"/>
        <c:axId val="12825957"/>
      </c:barChart>
      <c:catAx>
        <c:axId val="21892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25957"/>
        <c:crosses val="autoZero"/>
        <c:auto val="1"/>
        <c:lblAlgn val="ctr"/>
        <c:lblOffset val="100"/>
        <c:noMultiLvlLbl val="0"/>
      </c:catAx>
      <c:valAx>
        <c:axId val="12825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92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801-5C14-496E-A9AD-697C0678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540-66AF-4620-BFC8-1550EF0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7EC-D3BA-49B7-84B0-EC293D3A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2F8-BBD4-464D-9B3F-1AD1F2EF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1F3-229A-46CA-A4F8-51961726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BC2-3CDA-4E07-BEE8-60B6E9B4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CFF-A191-4373-A08C-02434EA2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8A4-9B3C-42B8-B00A-F3EDCBE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718-AAD8-4627-9DF4-AA945B10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A54-2B90-4609-BCDC-7E8EB60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434-01E5-4181-8BF0-5F59F908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EDD-CD32-4A48-9F0D-E3FF8AB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BA2C2-AAE6-46D3-8205-71137136B8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