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65202"/>
        <c:axId val="78874291"/>
      </c:barChart>
      <c:catAx>
        <c:axId val="75365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74291"/>
        <c:crosses val="autoZero"/>
        <c:auto val="1"/>
        <c:lblAlgn val="ctr"/>
        <c:lblOffset val="100"/>
        <c:noMultiLvlLbl val="0"/>
      </c:catAx>
      <c:valAx>
        <c:axId val="78874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65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379-C583-4894-B235-0E60D47E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72E-4ED0-402F-8010-40F219E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6A5-E8A2-4B8E-A229-7D1AAFB3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6FC-9026-4097-B948-7B3A896F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37E-51C1-4F74-A835-66D5374D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9DD-D1B0-46F7-930F-AACA4891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D19-0770-458B-ABDC-BF318CA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1CC-4AA1-4EB1-B825-372E556E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BE4-BD3C-4EBD-B14D-62655876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4B0-7A87-45AD-AA91-52F88713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F90-234C-4392-A052-F38CB0D8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078-5A78-4C15-B38D-CC949694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17175-EE99-40FE-8619-9917908B7C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