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92910"/>
        <c:axId val="21152908"/>
      </c:barChart>
      <c:catAx>
        <c:axId val="26592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2908"/>
        <c:crosses val="autoZero"/>
        <c:auto val="1"/>
        <c:lblAlgn val="ctr"/>
        <c:lblOffset val="100"/>
        <c:noMultiLvlLbl val="0"/>
      </c:catAx>
      <c:valAx>
        <c:axId val="21152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92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6DA-4C43-4416-9B46-DDE84252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4CA-9146-43AE-ADAA-0F5C2E36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842-F8BF-479A-A1F1-4854A098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384-9D4C-48C9-A900-9A0E887A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09A-C3FF-4A48-9EA5-54597484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C27-EB8D-4489-B331-5854758B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6A4-E0E5-4E00-A948-158B84AB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5A7-7945-41E9-A47A-D8230A32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A9B-4205-4B62-A4DB-26A6D803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2AC-BE01-4E35-BE96-647410FA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80F-8EEA-4FD3-9AD0-FB23897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26D-4A7A-4F65-9A15-764B348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684A4-51D1-43BA-9A50-8532DEC232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