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40658"/>
        <c:axId val="67949176"/>
      </c:barChart>
      <c:catAx>
        <c:axId val="79640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49176"/>
        <c:crosses val="autoZero"/>
        <c:auto val="1"/>
        <c:lblAlgn val="ctr"/>
        <c:lblOffset val="100"/>
        <c:noMultiLvlLbl val="0"/>
      </c:catAx>
      <c:valAx>
        <c:axId val="6794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40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8477-D874-4908-B8F5-ADB628DE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63DA-0850-4524-9B38-D21EBA9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219-0629-484C-9BC4-42D2833D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37B-2D0E-4582-ABF3-26338BBC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940-25C4-4DED-B569-E5CD5954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9B25-CCAF-450B-BB35-6084AD87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F15-D1FA-4FB9-BF18-15FD483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6B5-F655-43F3-B326-CE915BBF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03F-E94F-4C40-89EC-80B63E59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1CB-8A2E-4A01-A4AD-1352EDD4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4760-D0A4-4A2C-B515-9AF8E3A2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EB8F-8A99-45CF-8A46-43111211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769ED-99E2-4544-B407-EE94D8B7E3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