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613009"/>
        <c:axId val="38918000"/>
      </c:barChart>
      <c:catAx>
        <c:axId val="706130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18000"/>
        <c:crosses val="autoZero"/>
        <c:auto val="1"/>
        <c:lblAlgn val="ctr"/>
        <c:lblOffset val="100"/>
        <c:noMultiLvlLbl val="0"/>
      </c:catAx>
      <c:valAx>
        <c:axId val="389180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130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C1A2-4397-4F77-ABB1-2CAD9711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616F-F5EB-4B6B-B40D-66EC795C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4D81-2F9D-438C-A6C9-4649DD87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97FF-E7BD-4777-8A53-AD3D21AC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ACA4-EFD8-4DBF-B1B4-8A3E11E8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9E52-2F4B-491F-8E24-65F4F475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C98E-7267-4A7C-925B-D30C6200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F1A1-FD37-43B2-BFCF-D46F852E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9847-0882-4FBD-9D3B-0B78C08D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EB70-CDE7-4C2B-A25A-30E181D4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A083-FD74-4969-B3C0-47419F91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58C6-DEE2-4719-8AD4-868313F3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FA234-06DB-47DE-9D71-C262C6D665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