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07010"/>
        <c:axId val="55247359"/>
      </c:barChart>
      <c:catAx>
        <c:axId val="22907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7359"/>
        <c:crosses val="autoZero"/>
        <c:auto val="1"/>
        <c:lblAlgn val="ctr"/>
        <c:lblOffset val="100"/>
        <c:noMultiLvlLbl val="0"/>
      </c:catAx>
      <c:valAx>
        <c:axId val="55247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07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D02-72B5-446F-BC02-0D6F4084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FF9-94DD-45F4-AB6C-427F492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8D2-098B-4D7F-9DCE-264BEF35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DE9-6307-402F-9D58-7167D6E9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926-8B5C-461A-9422-901D5130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43D-8908-43DD-8BE0-F46FF658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108-EC5A-4B98-B174-2357CB41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E31-9771-4161-AA09-985B5FCC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FEB-69F5-48F7-BDC5-C6AAEE37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DBE-E06B-4449-910A-E50A496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542-4676-447E-B461-F3C58F4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3D8-E8B9-4DBD-81F9-FC08796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97A38-D96B-4D09-899A-005A954E3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