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40263"/>
        <c:axId val="66336809"/>
      </c:barChart>
      <c:catAx>
        <c:axId val="73040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36809"/>
        <c:crosses val="autoZero"/>
        <c:auto val="1"/>
        <c:lblAlgn val="ctr"/>
        <c:lblOffset val="100"/>
        <c:noMultiLvlLbl val="0"/>
      </c:catAx>
      <c:valAx>
        <c:axId val="66336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40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5E8-F50C-4AFB-AFE7-A228BCF2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43F-782E-48FE-A48F-F115317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99C-444E-4DBA-A51E-8BFF055E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F95-514B-439A-B83B-6EC876AB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8FA-07CD-4549-AD05-10A6E0E7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2FD-A003-437C-BDB5-FE06094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7BF-7271-493D-883A-852F025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6AF-F93B-44A7-8FC8-95218E28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C9F-2A94-4A68-B317-5303CD9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9AF-EA15-401B-8BE1-BD8236DE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3CC-9CAF-48C1-BB79-B1BBD513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127-79DB-4616-A10D-638A229D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04641-1110-454F-9A79-EA42E727F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