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16175"/>
        <c:axId val="46927397"/>
      </c:barChart>
      <c:catAx>
        <c:axId val="846161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27397"/>
        <c:crosses val="autoZero"/>
        <c:auto val="1"/>
        <c:lblAlgn val="ctr"/>
        <c:lblOffset val="100"/>
        <c:noMultiLvlLbl val="0"/>
      </c:catAx>
      <c:valAx>
        <c:axId val="469273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161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4FB-75E2-4A50-B0C1-48B1B4BF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13DE-5359-43DE-ACA6-94356078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940-CF00-4A40-B929-5B734A2A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5EA-C60C-4C72-9789-489DA925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BB88-B3F9-4BEF-A500-7EC988F0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B3F-A34F-42B1-92EE-4A0362CF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9CB7-4CD4-4C7C-9B7E-D20F09D6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CC1-A06B-4C6C-A89C-04BC2762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1CE-8DC7-468D-8745-BEC1727C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1A43-8A71-4082-9EC3-6C71CFE2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C76D-5EF6-44A2-8627-2FD80BBF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985D-1FBC-4A1A-B65C-3CDE466C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DD2AC-4F8A-4A63-8338-0FF90AA0C8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