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80758"/>
        <c:axId val="61824232"/>
      </c:barChart>
      <c:catAx>
        <c:axId val="54580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24232"/>
        <c:crosses val="autoZero"/>
        <c:auto val="1"/>
        <c:lblAlgn val="ctr"/>
        <c:lblOffset val="100"/>
        <c:noMultiLvlLbl val="0"/>
      </c:catAx>
      <c:valAx>
        <c:axId val="61824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80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054-0FED-4CA8-9B92-89C8503D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FF5-8AA7-4749-8608-4C509BB0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049-FF61-40F8-A637-16641500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6B1-81F6-430F-AA7B-49CB3C2A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4B7-153E-4935-8DBB-302B4A2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46C-0D25-446E-9DFE-143F618A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4E5-2962-4CBE-BA48-734F0DAA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A1D-2F9D-4060-BCE3-227C739F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8A0-DA9F-4B77-9619-7F72B173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A76-C3A0-4798-8BD7-843F556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140-59A0-4E0A-B599-65D3A2FB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5D6-64B7-4B32-8978-B6506BA7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1BB73-A245-451C-B09C-F757508804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