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22419"/>
        <c:axId val="27403462"/>
      </c:barChart>
      <c:catAx>
        <c:axId val="29322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3462"/>
        <c:crosses val="autoZero"/>
        <c:auto val="1"/>
        <c:lblAlgn val="ctr"/>
        <c:lblOffset val="100"/>
        <c:noMultiLvlLbl val="0"/>
      </c:catAx>
      <c:valAx>
        <c:axId val="27403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22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3FF-F622-4DEF-BA1D-44C1E38C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65C-388B-4C16-BAC8-7E02EC2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CA1-01B8-43C2-A327-32DDBAEB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DA7-3716-4816-B242-5BA5081B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717-65FB-4212-9BBE-1CF6F416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878-5F2B-4A44-BDBC-B0A2D456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D2E-C3F2-46BE-A487-777FCC4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F93-1C0B-4844-92D7-BB34C8A7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B89-4B70-4005-81D8-6C33C422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1E3-EE83-497A-8E87-A67C1EE0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218-AEBD-4B61-841D-0BDDF3D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966-F2EE-4521-A124-9E5907E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9003-EDEF-423D-8DF7-A620DB6EFD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