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25848"/>
        <c:axId val="21476457"/>
      </c:barChart>
      <c:catAx>
        <c:axId val="41525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76457"/>
        <c:crosses val="autoZero"/>
        <c:auto val="1"/>
        <c:lblAlgn val="ctr"/>
        <c:lblOffset val="100"/>
        <c:noMultiLvlLbl val="0"/>
      </c:catAx>
      <c:valAx>
        <c:axId val="2147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25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9E5-954C-4D12-A569-248DEAE5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8F1-DE4F-44AA-99F5-F027C64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C26-6B6E-406B-A517-306FB558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C8B-87BE-42E9-ABE7-B6C60D2B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AAE-86E0-4619-9149-5EF0D933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82D-8595-49C7-9FAE-5F6ACFE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AB84-B903-4D78-A7BA-9029D65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97B-865A-4985-B9AE-6B9F44B5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599-03C9-4E25-8CC2-5C0B5059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1DD-4733-4648-BB70-E4BDC18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209-A9C7-4576-B2F3-9BD9DFF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D9A-C1D1-4E24-87D0-D9F3961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D69CD-8982-4A78-9F1C-2D9933A6A2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